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631-9A9C-4064-8731-E7A85E2F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66E-D62B-4261-B735-DFFCF39A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FD8-D605-43FB-BFAA-A611B189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934-E50A-468B-B2C5-BF80581E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0A82-BD75-4501-AF56-6A442547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C921-1C1C-4C9E-A977-8A04557D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97A3-69D2-4191-A2C1-9D8F5AC2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9856-42C6-43A6-943A-F4A8E3A5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A5C0-6FCA-452A-B58D-691611E1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ECC9-2901-49B6-BF6C-3DF0D575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2A8D-38E3-4481-A2B6-60E83B0D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122-B596-486B-83EB-0EC80E5C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560C-38C8-4D56-B88A-EC7BF628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36D0-4387-4789-9E6F-2989C50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05E8-EBE4-46DA-B805-513D8DAE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631A-CF76-4053-9A2F-27141059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95E1-616E-4C6B-9400-B9BF8F6B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469B-DE35-42A2-B88A-1263E3D9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8992-DE33-47AE-A045-6C691B8E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18920-F9DA-49EF-8563-599FB684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8C416-873F-4EF3-A775-9F1E1A94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03DD-9C33-4E46-80CF-5F7D3333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F56-6B2D-4341-8654-0EA1D7D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1E8B-FFDF-4F1D-8D0B-F1473D0E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8F5B-559C-40E6-BAC8-71BBFCF7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93DAA-1738-45EB-84D3-5BB34897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6525-1F52-4295-A7DE-837F5F9F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22786-115D-4B63-8134-6B7BC701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2561-2DA7-4BEA-B04F-E3A1CF76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5B43-17EB-49A6-A654-4546EDA3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10A6-D808-4C4F-9CFA-D4FB73BD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808B6-EE43-495A-933D-8D5E1DDF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836D3-E065-4383-B56C-0D4D46CE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766-00B3-49EF-86A3-BCF70B32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5DD9-ADD2-4F32-B3E6-9A32C1E4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2722E-E7DA-4652-9A7C-C5751FD1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7F14-F7A5-4F81-89A9-6CD26603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039B-213C-48D2-90B0-83F4AE2C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8E084-522B-4F46-9322-B5F7610A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8153D-7701-48D7-94AE-F4B80C51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66B9-18C8-482F-A1C9-F3EC546A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4644-96BB-462B-8CE5-756898B0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C9FA-8903-4143-8E8F-779A7F1B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5F3F-845A-4F17-BD2A-1ECC67A9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7E9-4866-4F73-B76D-F7DE47A1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054FA-739B-4E90-B097-C2C76798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DE53-8EDA-4875-A8A5-A01A0B53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13219-015D-4FC4-AF7A-9840A32C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51097-AF03-4192-88A8-59E0A218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720DE-68D3-4194-9C2F-F8B48942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8C712-1B68-4529-A4D2-74A1A7F8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C948C-1354-4D37-9AA6-65D1D26B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6A3B9-DFEF-4088-9228-7B0D1E03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2E880-3EA3-4244-8364-AA82E424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07ED-D3FC-40F1-8774-FC82DEB8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E66-EC70-4C7C-9297-8DEED93D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9F0C9-0696-43C8-A0C5-120DBCF9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AE774-5219-4705-A815-2CFBE491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7009C-7176-4865-B64E-61512D14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620C6-5011-40AD-9C8C-A23367E4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2799A-0287-4157-80DF-9652A016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593E2-A269-4279-AB5B-94B1059C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FA80C-5509-4A7C-ADB5-B4F2369D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84AFA-BA92-49C8-9906-33EE75EF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AD601-0CA1-4563-9126-A0014E3E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0905-178E-4A84-9A99-8161B618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859-BB52-45AE-92E5-D64BB4F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801EF-4231-4BD9-B364-A9FF682B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55918-A54E-4D0E-BEE8-2E19EF7E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A0717-47E6-44BE-9D1B-A55185A0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BA8-6832-40C3-8178-EE92005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8D4-7C41-4461-8E99-FF953351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7682-2A7B-4CC8-B3F0-08D0CAB267A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9167-A03F-41E3-8FF5-620D15BE2CA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30FE-2034-4C12-AC48-C0CE13FAD40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0F79-7950-495B-A825-A40F7321258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F4B1-DF80-45B3-B5B3-9B94E6BF7DD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F097-6520-4BEF-8920-B96058C71A7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82560" y="2000160"/>
            <a:ext cx="4511880" cy="2443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5810400" y="228600"/>
            <a:ext cx="3333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tterns of Evolu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have previously discussed micro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we look with a broad scope, we can discuss macro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ral factors are important for macro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tinc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arth’s history is marked with mass extin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se are important as they wipe out many species, giving those that survive a chance to flouris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daptive Radi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all Darwin’s observations of the finch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 times, a single species can yield multiple forms of unique spec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roups would have to be separated by some me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can be thought of as a type of divergent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vergent Evolu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though species most fit for their environment, at times different environments can resemble each 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th similar shaping factors, two unique species, continents apart, can evolve to a point where they look the sa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286000" y="4495680"/>
            <a:ext cx="434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evolu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organisms almost have a sort of symbio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they are closely linked, their evolution patterns often intertwin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change in response to each 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hanges in Frequenc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s mentioned before, there are five requirements for genetic stability in a popu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pecific cases can break that st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In small populations, genetic drift can become an iss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These are due to chance al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One example is the founder eff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This is when a few individuals colonize in a new habit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 second is the bottleneck eff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Here, a disaster or catastrophe will reduce the population at rand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685800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510516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You can think of these as a reduction in the population’s biodivers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914400" y="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ypes of Natural Selec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though Darwin described natural selection as a method for evolution, we can look deep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three typ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bilizing Se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favours the mo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phenotypes, 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minates the extre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551560" y="1066680"/>
            <a:ext cx="3592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ional Se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re, only one extreme variant is fav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is usually due to changing environmental conditions or habitat ch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6091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rsifying (aka Disruptive)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vironmental conditions favor both vari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often results in polymoph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973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key here is to recognize that the may be different “modes” of selection, the basic theory of natural selection is the sa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1:40:02Z</dcterms:created>
  <dc:creator>ED18</dc:creator>
  <dc:description/>
  <dc:language>en-US</dc:language>
  <cp:lastModifiedBy>ED18</cp:lastModifiedBy>
  <dcterms:modified xsi:type="dcterms:W3CDTF">2012-04-30T01:15:45Z</dcterms:modified>
  <cp:revision>3</cp:revision>
  <dc:subject/>
  <dc:title>Population dynamics</dc:title>
</cp:coreProperties>
</file>